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D2E67F7-E37A-4C6F-A009-8C7E2EE7D5A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F48108A-FD9C-4FF5-8E9E-EBFFFA8FE76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0FAA359-0993-4027-9AC8-7621A1C1158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31A9879-2088-49D3-A5A0-B911E25E120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74F49D4-37A4-404C-ABE4-A266CF5686B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189B36B-FC7C-4113-A380-4C425E91AE2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4732CFD-C79C-41E5-BFDD-BE188649E23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E84FD4B-D4B7-4D62-BD0F-B80AD211AB1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5053DE3-ED4F-47D6-9079-AABC381F0BF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263B552-46F9-451C-8E7D-35652C3331F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4E39D74-9675-4271-9934-AD5C1C02E55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C328805-0EB0-4251-9950-C2DE9689EB4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C82D259-8245-47A7-BAB7-4DB1C70F738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A45A512F-5D01-41F4-8081-6204979D8ED0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B8BFDA3-46AA-4513-A834-BD05275A317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0D4C054-8642-4CF4-A9EA-F75947D6F98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CCBB4E2-8677-41B5-9CF6-DB9849A65E3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81DE933-73B0-47F6-8BA5-7313FA4A8E2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3627F52-C422-42A8-81AF-088CFCD6B9F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12E5-E1A2-4650-9FBC-14DBD2068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069A-B4CA-478E-9DB1-01C3C22D7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1DC9-4F93-4BB5-B1B7-BEB6976D2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33D2-4D51-4C2F-8C32-A7B77095D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B9E-B3BE-4B4F-8B22-52DA7C3414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DC3-B535-4AD7-B469-4DA7E47DF6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ED7-7253-4896-A478-AF8F5B76CC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BD1-0E89-4F00-8109-F76D08A791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BBD-1007-48DD-861B-0B6500A343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E84-9F23-4C5C-97C9-F3B6BE5D32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862-2271-4FD7-B357-0D2D1805B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811B-0E8E-469D-A9C3-1D9AA1EB3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B1A-8C41-440E-AD55-3706F035A5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C2F-E1B7-427F-BA4A-958C0B660B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4F7-173C-4D1A-A63D-A4FADFF6FB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053-353C-442B-BAB8-E1DF589676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AC4-AE34-40C1-9612-A042D3F1D5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2B05-AAE9-4166-83F8-4479F5EBC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D17C-77BC-4A13-823E-0A06FFBE8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DBC0-4F2E-42F3-B1E6-243DB96E3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FCCB-5BD3-4015-BA2F-0BCA0E426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04C5-03F3-4D51-8ADE-D1DE76C14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4BAE-E0DA-47B6-941D-1459FFE0D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D7DA-140E-4D7C-94E0-B2FDE6F63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39F7-C55F-470C-9A17-B9EFBF9D26E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7290-3E65-46B3-B412-8AF5194C4644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57F2-BCD6-4D1C-BB03-554A6050076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03280" y="404640"/>
            <a:ext cx="6623280" cy="1075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форма 05031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24000" y="2000880"/>
            <a:ext cx="8635680" cy="314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Формировать таблицы пояснительной записки целесообразно во взаимосвязи со спецификой деятельности</a:t>
            </a:r>
            <a:r>
              <a:rPr b="1" lang="en-US" sz="2000" spc="-1" strike="noStrike">
                <a:solidFill>
                  <a:srgbClr val="660066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конкретного 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каз Министерства финансов РФ №191н от 28.12.2010г. </a:t>
            </a:r>
            <a:r>
              <a:rPr b="1" i="1" lang="ru-RU" sz="2400" spc="-1" strike="noStrike">
                <a:solidFill>
                  <a:srgbClr val="28497a"/>
                </a:solidFill>
                <a:latin typeface="Arial"/>
              </a:rPr>
              <a:t>«О порядке составления и представления годовой, квартальной и месячной отчетности об исполнении бюджетов бюджетной систем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7A48-2C49-4F23-AB46-6E2C59614E0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8500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Rectangle 154"/>
          <p:cNvSpPr/>
          <p:nvPr/>
        </p:nvSpPr>
        <p:spPr>
          <a:xfrm>
            <a:off x="182520" y="44280"/>
            <a:ext cx="8926560" cy="27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7e99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проведен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инвентаризац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(годовая)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080" y="1146240"/>
          <a:ext cx="9036000" cy="481788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89160"/>
                <a:gridCol w="1288800"/>
                <a:gridCol w="1292400"/>
                <a:gridCol w="1292040"/>
                <a:gridCol w="1292400"/>
              </a:tblGrid>
              <a:tr h="52308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е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езультат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Меры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странению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выявленных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асх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2797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каз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д счета бюджетного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558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продуктов питания в пределах норм естественной убыли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списана на расход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2013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D79D-B2A7-47F7-BAD8-6393818A7F5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4920" y="189360"/>
            <a:ext cx="910908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Сведения о результатах внешних контрольных мероприятий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620640"/>
          <a:ext cx="8870760" cy="5313600"/>
        </p:xfrm>
        <a:graphic>
          <a:graphicData uri="http://schemas.openxmlformats.org/drawingml/2006/table">
            <a:tbl>
              <a:tblPr/>
              <a:tblGrid>
                <a:gridCol w="1081080"/>
                <a:gridCol w="1870200"/>
                <a:gridCol w="2087280"/>
                <a:gridCol w="2184480"/>
                <a:gridCol w="1647720"/>
              </a:tblGrid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онтрольного орг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ем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Меры по результатам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9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6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о-ревизио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Целевое использование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бюджетных средств отремонтирован автомобиль, поврежденный вследствие аварии по вине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 Акт о нарушениях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остоверность ведения бюджетного учета и составление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ражение операций, ведение регистров бюджетного учета) в соответствии с действующими на данный момент нормативно-правов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блюдение порядка работы с денежной наличностью и порядка ведения кассовых опер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33A6-C99A-4CA5-A9D3-532BC2541E9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77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4920" y="981000"/>
            <a:ext cx="8964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78"/>
          <p:cNvSpPr/>
          <p:nvPr/>
        </p:nvSpPr>
        <p:spPr>
          <a:xfrm>
            <a:off x="179280" y="3500280"/>
            <a:ext cx="3589560" cy="649440"/>
          </a:xfrm>
          <a:prstGeom prst="wedgeRoundRectCallout">
            <a:avLst>
              <a:gd name="adj1" fmla="val 41157"/>
              <a:gd name="adj2" fmla="val -2003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смет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79"/>
          <p:cNvSpPr/>
          <p:nvPr/>
        </p:nvSpPr>
        <p:spPr>
          <a:xfrm>
            <a:off x="4427640" y="3645000"/>
            <a:ext cx="3878280" cy="576000"/>
          </a:xfrm>
          <a:prstGeom prst="wedgeRoundRectCallout">
            <a:avLst>
              <a:gd name="adj1" fmla="val -41361"/>
              <a:gd name="adj2" fmla="val -248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получатели субсид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280" y="44280"/>
          <a:ext cx="8964720" cy="392400"/>
        </p:xfrm>
        <a:graphic>
          <a:graphicData uri="http://schemas.openxmlformats.org/drawingml/2006/table">
            <a:tbl>
              <a:tblPr/>
              <a:tblGrid>
                <a:gridCol w="7740720"/>
                <a:gridCol w="1224000"/>
              </a:tblGrid>
              <a:tr h="392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73"/>
          <p:cNvSpPr/>
          <p:nvPr/>
        </p:nvSpPr>
        <p:spPr>
          <a:xfrm>
            <a:off x="108000" y="671040"/>
            <a:ext cx="878508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количестве подведомствен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2286000" y="542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полняется главным распорядителем (распорядителем)  бюдже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5587-D0F1-4398-B0B0-767CBC0896B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3440" y="44280"/>
          <a:ext cx="8386560" cy="270000"/>
        </p:xfrm>
        <a:graphic>
          <a:graphicData uri="http://schemas.openxmlformats.org/drawingml/2006/table">
            <a:tbl>
              <a:tblPr/>
              <a:tblGrid>
                <a:gridCol w="7243560"/>
                <a:gridCol w="114300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1"/>
          <p:cNvSpPr/>
          <p:nvPr/>
        </p:nvSpPr>
        <p:spPr>
          <a:xfrm>
            <a:off x="2268360" y="374760"/>
            <a:ext cx="45356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результат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452680" y="357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717480"/>
          <a:ext cx="9036000" cy="1590840"/>
        </p:xfrm>
        <a:graphic>
          <a:graphicData uri="http://schemas.openxmlformats.org/drawingml/2006/table">
            <a:tbl>
              <a:tblPr/>
              <a:tblGrid>
                <a:gridCol w="1522440"/>
                <a:gridCol w="1305000"/>
                <a:gridCol w="765000"/>
                <a:gridCol w="1546200"/>
                <a:gridCol w="1198440"/>
                <a:gridCol w="1497240"/>
                <a:gridCol w="120168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 по Б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плану                                   Фактически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301"/>
          <p:cNvSpPr/>
          <p:nvPr/>
        </p:nvSpPr>
        <p:spPr>
          <a:xfrm>
            <a:off x="0" y="2471760"/>
            <a:ext cx="9144000" cy="4513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18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 заполнения таблицы потребуется участие отраслевых специалистов: планового отдела, отдела экономического анализа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В таблице необходимо отразить количественно-качественные (статистические) показатели результативности деятельности учреждения в разрезе плановых и фактических показателей в натуральном и стоимостном выраж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ичество посещений; количество  вызовов на дом; количество койко-дн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и фор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5031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лежат консолидации, поэтому перечень показателей должен быть определен главным распорядителем бюджетных средств и доведен до всех подведомственных учре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Если субъекту бюджетной отчетности, не установлены в соответствующем порядке показатели результативности деятельности, то информация о результатах деятельности раскрывается в текстовой части раздела 2 Пояснительной записки. Кроме того,  необходимо представить в тексте пояснительной записки информацию о мерах по повышению квалификации и переподготовке специалистов; о ресурсах (численность работников, стоимость имущества, бюджетные расходы, объемы закупок и т.п.), используемых  для достижения показателей результа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A95C-B746-44F4-B504-795536C6247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2120" y="115920"/>
          <a:ext cx="8813880" cy="243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1"/>
          <p:cNvSpPr/>
          <p:nvPr/>
        </p:nvSpPr>
        <p:spPr>
          <a:xfrm>
            <a:off x="0" y="368280"/>
            <a:ext cx="9144000" cy="67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зменениях бюджетной роспи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главного распорядителя бюджетных  средств, главного администратора источников финансирования дефицита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920" y="1069920"/>
          <a:ext cx="9109080" cy="3295800"/>
        </p:xfrm>
        <a:graphic>
          <a:graphicData uri="http://schemas.openxmlformats.org/drawingml/2006/table">
            <a:tbl>
              <a:tblPr/>
              <a:tblGrid>
                <a:gridCol w="1811520"/>
                <a:gridCol w="1717560"/>
                <a:gridCol w="1655640"/>
                <a:gridCol w="2208240"/>
                <a:gridCol w="1716120"/>
              </a:tblGrid>
              <a:tr h="2174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, группы, подгруппы источников финансирования дефицита бюджета 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н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азница между показателями бюджетной росписи и закона (решения) о бюджете, 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ем) о бюджете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й росписью, с учетом изменений на отчетную дату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99"/>
          <p:cNvSpPr/>
          <p:nvPr/>
        </p:nvSpPr>
        <p:spPr>
          <a:xfrm>
            <a:off x="0" y="4427640"/>
            <a:ext cx="9144000" cy="2372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м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и распорядителями бюджетных средств,  главными администраторам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необходимо отразить обобщенные за отчетный период данные об изменениях в бюджетной росписи, объемы внесенных изменений и причины внесений изменений в бюджетные назначения по расходам за отчет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внесенных уточнений со ссылкой на правовые основания их внесения (статьи Бюджетного кодекса Российской Федерации и закона (решения) о соответствующем бюдж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DEBD-687F-41C7-92A1-D50A5D731EB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908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084640"/>
            <a:ext cx="914400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338720" y="2852640"/>
            <a:ext cx="2374920" cy="765360"/>
          </a:xfrm>
          <a:prstGeom prst="wedgeRoundRectCallout">
            <a:avLst>
              <a:gd name="adj1" fmla="val -100685"/>
              <a:gd name="adj2" fmla="val -127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ходы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огнозные показател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28800"/>
            <a:ext cx="9144000" cy="6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 формы по ОКУ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503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D349-191D-4CC8-8428-ACB0AC8A40F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36360" y="-18720"/>
            <a:ext cx="914400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(ф. 0503164) формируется путем обобщения данных по исполн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 бюджет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министратором поступлений в бюд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 распоряд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орядителем) средств бюджета - на основании показателей консолидированного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ом, организующим исполнение бюдж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1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иоди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я 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вартальная, год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трокам  010, 200, 450, 500, 520,6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ражаются показатели из аналогичных строк Отчета (ф. 0503127), консолидированного Отчета (ф. 0503127) и Отчета (ф.0503117). При этом графы 5,6 по строке 450 не запол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ются код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юджетной классификации, по которым в результате исполнения бюджета на отчетную дату  имеются отклонения между плановыми и фактическими показателями, в соответствии с разделами при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казателям не содержащим плановые назначения форма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дел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Доходы бюджета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классификации доходов бюдж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8CEE-2B6B-4125-8B68-E286876D2F9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87280"/>
            <a:ext cx="914400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Расходы бюджет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разрезе разделов, подразделов, целевой статьи функциональной классификации расходов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Источники финансирования дефицитов бюджет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источников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годовые объемы бюджетных назначений, утвержденных уточненной бюджетной роспись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получателями средств бюджета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овые объемы утвержденных лимитов бюджетных обязательств, с учетом их уточнения)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суммы исполненных бюджетных назначений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ется соответственно по разделам приложения разница между данными графы 3 и графы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отклонений отраженные в графе 5 приложения. Например: отсутствие необходимых нормативных документов, определяющих порядок выделения и (или) использования средств бюджетов; блокировка расходов (с указанием причины); возникновение курсовой разницы; сезонность отдельных видов расходов; недоведение (несвоевременное доведение) лимитов бюджетных обязательств (с указанием причины); изменение графика платежей по обязательствам; несвоевременность представления исполнителями работ документов для окончательного расчета; длительность сроков заключения государственных контрактов; необходимость резервирования денежных средств для обеспечения выполнения возложенных функций; прочие причины  (указать как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44F2-9B3E-4C9A-A6B4-3DD9A0A14A7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0840" y="7920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11"/>
          <p:cNvSpPr/>
          <p:nvPr/>
        </p:nvSpPr>
        <p:spPr>
          <a:xfrm>
            <a:off x="395280" y="404640"/>
            <a:ext cx="82803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сполнении мероприятий в рамках целев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920" y="765000"/>
          <a:ext cx="8993160" cy="2738520"/>
        </p:xfrm>
        <a:graphic>
          <a:graphicData uri="http://schemas.openxmlformats.org/drawingml/2006/table">
            <a:tbl>
              <a:tblPr/>
              <a:tblGrid>
                <a:gridCol w="1555920"/>
                <a:gridCol w="1315800"/>
                <a:gridCol w="2386080"/>
                <a:gridCol w="1224000"/>
                <a:gridCol w="1079640"/>
                <a:gridCol w="1431720"/>
              </a:tblGrid>
              <a:tr h="1122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рограммы, под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целевой статьи расходов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Исполнено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Text Box 88"/>
          <p:cNvSpPr/>
          <p:nvPr/>
        </p:nvSpPr>
        <p:spPr>
          <a:xfrm>
            <a:off x="0" y="3443400"/>
            <a:ext cx="9144000" cy="329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яется учреждениями, которым выделяются средства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указать наименование программы (подпрограммы), в которой участвует учреждение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казывается код целевой статьи расходов бюджетов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ечень мероприятий, обеспечивающих реализацию программы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ется объем средств , утвержденный уточненной бюджетной росписью, на реализацию мероприятий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ывается сумма исполненных бюджетных назначений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ются причины отклонен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жду графами 4 и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четную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532-C54D-42E1-98AC-9FA88428674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8000" y="260280"/>
          <a:ext cx="8856720" cy="243000"/>
        </p:xfrm>
        <a:graphic>
          <a:graphicData uri="http://schemas.openxmlformats.org/drawingml/2006/table">
            <a:tbl>
              <a:tblPr/>
              <a:tblGrid>
                <a:gridCol w="7648560"/>
                <a:gridCol w="120816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11"/>
          <p:cNvSpPr/>
          <p:nvPr/>
        </p:nvSpPr>
        <p:spPr>
          <a:xfrm>
            <a:off x="1476360" y="691920"/>
            <a:ext cx="66247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целевых иностранных креди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50920"/>
          <a:ext cx="9144000" cy="4903920"/>
        </p:xfrm>
        <a:graphic>
          <a:graphicData uri="http://schemas.openxmlformats.org/drawingml/2006/table">
            <a:tbl>
              <a:tblPr/>
              <a:tblGrid>
                <a:gridCol w="1758960"/>
                <a:gridCol w="685800"/>
                <a:gridCol w="719280"/>
                <a:gridCol w="1792080"/>
                <a:gridCol w="2427480"/>
                <a:gridCol w="176040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реди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глашение о кред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Цель использования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 использованного кредит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вропейский банк реконструкции и развития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троительство автомобильной дороги «Амур» Чита-Хабаро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4 230 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693 – км 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 171 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483 – км 596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943 – км 1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8 058 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6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финансирование из ФБ (НДС)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7 719 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 111 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6 608 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1 949 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 282 79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4 666 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0C36-BF2D-49F3-B6F2-B6480414F91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280" y="44280"/>
          <a:ext cx="8964720" cy="1451160"/>
        </p:xfrm>
        <a:graphic>
          <a:graphicData uri="http://schemas.openxmlformats.org/drawingml/2006/table">
            <a:tbl>
              <a:tblPr/>
              <a:tblGrid>
                <a:gridCol w="6739200"/>
                <a:gridCol w="1252440"/>
                <a:gridCol w="973080"/>
              </a:tblGrid>
              <a:tr h="18864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503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 1 января  201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чреждение 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ериодичность: квартальная,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8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Е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42"/>
          <p:cNvSpPr/>
          <p:nvPr/>
        </p:nvSpPr>
        <p:spPr>
          <a:xfrm>
            <a:off x="71280" y="2670120"/>
            <a:ext cx="3492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1628640"/>
          <a:ext cx="8964720" cy="510876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4"/>
          <p:cNvSpPr/>
          <p:nvPr/>
        </p:nvSpPr>
        <p:spPr>
          <a:xfrm>
            <a:off x="3518280" y="115200"/>
            <a:ext cx="185796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D03B-EC21-4477-AD20-EDD98602CE2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48D2-3EB2-46C3-90CC-9CDCF7A6F1B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66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13A9-68FA-4B32-A732-F12AFB7FDB2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115920"/>
          <a:ext cx="8712000" cy="6038640"/>
        </p:xfrm>
        <a:graphic>
          <a:graphicData uri="http://schemas.openxmlformats.org/drawingml/2006/table">
            <a:tbl>
              <a:tblPr/>
              <a:tblGrid>
                <a:gridCol w="1666800"/>
                <a:gridCol w="797040"/>
                <a:gridCol w="1149120"/>
                <a:gridCol w="1297080"/>
                <a:gridCol w="1100160"/>
                <a:gridCol w="1386000"/>
                <a:gridCol w="1315800"/>
              </a:tblGrid>
              <a:tr h="633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3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по дебиторской и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бюджетная, приносящая доход дея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дебиторская, кредиторск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ер (код)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юджетн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 задолженности всег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 просроченная (нереальная к взысканию) задолж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возни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дебитора (кредито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чин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у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F940-D80C-4373-B8E9-1B6D6F3B9C6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0840" y="11592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1"/>
          <p:cNvSpPr/>
          <p:nvPr/>
        </p:nvSpPr>
        <p:spPr>
          <a:xfrm>
            <a:off x="468360" y="549000"/>
            <a:ext cx="828036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финансовых вложениях получателя средст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8000" y="1052640"/>
          <a:ext cx="8964720" cy="3968640"/>
        </p:xfrm>
        <a:graphic>
          <a:graphicData uri="http://schemas.openxmlformats.org/drawingml/2006/table">
            <a:tbl>
              <a:tblPr/>
              <a:tblGrid>
                <a:gridCol w="1603440"/>
                <a:gridCol w="1141200"/>
                <a:gridCol w="2689200"/>
                <a:gridCol w="1765440"/>
                <a:gridCol w="1765440"/>
              </a:tblGrid>
              <a:tr h="786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ид финансового в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окумент-основание наличия в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F461-3D98-4DCA-ADEB-F9A057D71EF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3635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076720" y="5273640"/>
            <a:ext cx="3888000" cy="963720"/>
          </a:xfrm>
          <a:prstGeom prst="wedgeRoundRectCallout">
            <a:avLst>
              <a:gd name="adj1" fmla="val -117365"/>
              <a:gd name="adj2" fmla="val -215722"/>
              <a:gd name="adj3" fmla="val 16667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задолженности, без учета начисленных процентов, пеней и шт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3455-B1F4-4101-B08F-01C0543C5CF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08000" y="1135080"/>
            <a:ext cx="9001080" cy="451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2297520" y="16668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дения об изменении остатков валюты бал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. 05031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C5A7-36AF-45C8-B7FD-D08B27C485C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4200" y="-360"/>
            <a:ext cx="844416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Semibold"/>
              </a:rPr>
              <a:t>Сведения ф. 0503173</a:t>
            </a:r>
            <a:endParaRPr b="0" lang="en-US" sz="30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76280" y="1042920"/>
            <a:ext cx="8443800" cy="5294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33280" y="1673280"/>
            <a:ext cx="3240000" cy="475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FB49-6E64-44B2-8F15-46F950C4D3F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4160" y="476280"/>
            <a:ext cx="8710560" cy="5235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7480"/>
            <a:ext cx="844416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ф. 0503176</a:t>
            </a:r>
            <a:endParaRPr b="0" lang="en-US" sz="2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138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6C2D-4D28-461A-A9F7-0295589214B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5295960"/>
          </a:xfrm>
          <a:prstGeom prst="rect">
            <a:avLst/>
          </a:prstGeom>
          <a:ln w="0">
            <a:noFill/>
          </a:ln>
        </p:spPr>
      </p:pic>
      <p:sp>
        <p:nvSpPr>
          <p:cNvPr id="202" name="Line 4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076720" y="4626000"/>
            <a:ext cx="3888000" cy="1251000"/>
          </a:xfrm>
          <a:prstGeom prst="wedgeRoundRectCallout">
            <a:avLst>
              <a:gd name="adj1" fmla="val -34481"/>
              <a:gd name="adj2" fmla="val -50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зация основных направлений произведенных расходов +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етализация по КБК (по решению Ф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2120" y="44280"/>
          <a:ext cx="8813880" cy="27972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од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формы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ОК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503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Rectangle 84"/>
          <p:cNvSpPr/>
          <p:nvPr/>
        </p:nvSpPr>
        <p:spPr>
          <a:xfrm>
            <a:off x="179280" y="527040"/>
            <a:ext cx="8785440" cy="27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б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спользовании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нформационо – коммуникационных технологий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годовая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2DC1-0E1A-4B9D-87AD-9A04B0CD018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5920"/>
          <a:ext cx="8748720" cy="568476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880"/>
                <a:gridCol w="1641240"/>
                <a:gridCol w="385920"/>
                <a:gridCol w="1085760"/>
                <a:gridCol w="376200"/>
                <a:gridCol w="308160"/>
                <a:gridCol w="615960"/>
                <a:gridCol w="615960"/>
                <a:gridCol w="307800"/>
                <a:gridCol w="6159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Проектирование прикладных систем и информационно-коммуникационной инфраструкту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технической документ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нормативных правовых а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чих докум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Разработка (доработка) программного обеспечения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граммного обеспечения (приобретение исключительных пра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работка специализированного программного обеспечения прикладных сис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Капитальные вложения в объекты информационно-коммуникационной инфраструкту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ительство специализированных зданий (помещений) для размещения технических средств и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ые капитальные вло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оборудования и предустановленного программного обеспечения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автоматизированных рабочих мест, транспортно-коммуникационного оборудования, серверного, периферийного и др.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 по доставке и складированию оборудования, не включая расходы по закупке запасных инструментов и принадлежностей (комплектующи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онтажные и пуско-наладочные работы поставляемых технически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уществление комплекса работ по специальным проверкам и исследов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9491-800A-4DCB-8A88-155BE07576F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1CFB-899C-4843-BAB9-A5E4FC358BF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6000" y="115920"/>
          <a:ext cx="8748720" cy="551340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520"/>
                <a:gridCol w="300240"/>
                <a:gridCol w="1341360"/>
                <a:gridCol w="384120"/>
                <a:gridCol w="1087560"/>
                <a:gridCol w="376200"/>
                <a:gridCol w="307800"/>
                <a:gridCol w="615960"/>
                <a:gridCol w="615960"/>
                <a:gridCol w="306360"/>
                <a:gridCol w="6177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Приобретение неисключительных прав на программное обеспечение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Услуги по аренде оборудования 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Подключение (обеспечение) к внешним информационным ресурсам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уп к телефонной сети связи общего пользования, предоставление доступа к услугам междугородной и международной связ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 Эксплуатационные расходы на информационно-коммуникационные технологии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еспечение функционирования и поддержка работоспособности  прикладного и системного программного обеспе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ическое обслуживания аппаратного обеспечения  включающее контроль технического состоя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курсов  для обу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учение пользователей создаваемых  прикладных систем (П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D057-9839-4888-8A2D-18F8A775DA8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18680" y="-81900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415240" y="23508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336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34800" y="7650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кстов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62520" y="27496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451560" y="7650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000" y="1268280"/>
            <a:ext cx="475128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онная структура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зультаты деятельности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отчета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субъектом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показателей финанс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и 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очие вопрос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64000" y="1268280"/>
            <a:ext cx="363564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бова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и № 191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держ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снения отд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казателей ис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4716360" y="3645000"/>
            <a:ext cx="792360" cy="215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658F-E19F-4961-A41A-F88A272AB76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6"/>
          <p:cNvSpPr/>
          <p:nvPr/>
        </p:nvSpPr>
        <p:spPr>
          <a:xfrm>
            <a:off x="2321640" y="666720"/>
            <a:ext cx="26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8497a"/>
                </a:solidFill>
                <a:latin typeface="Arial"/>
              </a:rPr>
              <a:t>По приносящей доход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302040" y="2563920"/>
            <a:ext cx="152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* * * * * * * * * * * * * * * * * * *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2916360" y="2565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4718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0"/>
          <p:cNvSpPr/>
          <p:nvPr/>
        </p:nvSpPr>
        <p:spPr>
          <a:xfrm>
            <a:off x="601200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1"/>
          <p:cNvSpPr/>
          <p:nvPr/>
        </p:nvSpPr>
        <p:spPr>
          <a:xfrm>
            <a:off x="7166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2"/>
          <p:cNvSpPr/>
          <p:nvPr/>
        </p:nvSpPr>
        <p:spPr>
          <a:xfrm>
            <a:off x="838836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3"/>
          <p:cNvSpPr/>
          <p:nvPr/>
        </p:nvSpPr>
        <p:spPr>
          <a:xfrm>
            <a:off x="601200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4"/>
          <p:cNvSpPr/>
          <p:nvPr/>
        </p:nvSpPr>
        <p:spPr>
          <a:xfrm>
            <a:off x="2916360" y="3789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471852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6"/>
          <p:cNvSpPr/>
          <p:nvPr/>
        </p:nvSpPr>
        <p:spPr>
          <a:xfrm>
            <a:off x="723816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7"/>
          <p:cNvSpPr/>
          <p:nvPr/>
        </p:nvSpPr>
        <p:spPr>
          <a:xfrm>
            <a:off x="831708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8"/>
          <p:cNvSpPr/>
          <p:nvPr/>
        </p:nvSpPr>
        <p:spPr>
          <a:xfrm>
            <a:off x="7236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9"/>
          <p:cNvSpPr/>
          <p:nvPr/>
        </p:nvSpPr>
        <p:spPr>
          <a:xfrm>
            <a:off x="6012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0"/>
          <p:cNvSpPr/>
          <p:nvPr/>
        </p:nvSpPr>
        <p:spPr>
          <a:xfrm>
            <a:off x="9036000" y="321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1"/>
          <p:cNvSpPr/>
          <p:nvPr/>
        </p:nvSpPr>
        <p:spPr>
          <a:xfrm>
            <a:off x="4788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327672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3"/>
          <p:cNvSpPr/>
          <p:nvPr/>
        </p:nvSpPr>
        <p:spPr>
          <a:xfrm>
            <a:off x="838836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4"/>
          <p:cNvSpPr/>
          <p:nvPr/>
        </p:nvSpPr>
        <p:spPr>
          <a:xfrm>
            <a:off x="46454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5"/>
          <p:cNvSpPr/>
          <p:nvPr/>
        </p:nvSpPr>
        <p:spPr>
          <a:xfrm>
            <a:off x="70952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6"/>
          <p:cNvSpPr/>
          <p:nvPr/>
        </p:nvSpPr>
        <p:spPr>
          <a:xfrm>
            <a:off x="8388360" y="63817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6012000" y="6308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6498360" y="404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годова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20DB-A775-488D-863B-0DD7806CB08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77880" y="960480"/>
            <a:ext cx="7853400" cy="545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59640" y="44280"/>
            <a:ext cx="2394000" cy="3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ф. 0503182</a:t>
            </a:r>
            <a:endParaRPr b="0" lang="en-US" sz="2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E9EB-3BCC-475F-84F0-BC1BE449955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4920" y="55440"/>
            <a:ext cx="9036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дения об основных направлениях деятельност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учреж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Таблица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360" y="357120"/>
          <a:ext cx="9036360" cy="4641840"/>
        </p:xfrm>
        <a:graphic>
          <a:graphicData uri="http://schemas.openxmlformats.org/drawingml/2006/table">
            <a:tbl>
              <a:tblPr/>
              <a:tblGrid>
                <a:gridCol w="2914920"/>
                <a:gridCol w="4373280"/>
                <a:gridCol w="1748160"/>
              </a:tblGrid>
              <a:tr h="3985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цели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86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медицинской помощи насел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рачебная помощь (акушерское дело, лечебное дело, стоматология, эпидемиология, лабораторная диагностик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Амбулаторно-поликлиническая помощь, в том числе в условиях дневного стационара и стационара на дому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Работы и услуги по экспертизе временной нетрудоспособност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боты и услуги по экспертизе (контроль) качества медицинской помощ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Работы и услуги по предварительным и периодическим медицинским</a:t>
                      </a:r>
                      <a:r>
                        <a:rPr b="1" lang="en-US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осмотрам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ы и услуги по профилактической медицине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Устав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Закон о здравоохранен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о порядке предоставления платных услуг населению лиценз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1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. Оказание платных медицински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населению дополнительных к гарантированному объему бесплатной медицинской помощи услуг в виде профилактической, лечебно-диагностической, реабилитационной, протезно-ортопедической и зубопротезной помощи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158"/>
          <p:cNvSpPr/>
          <p:nvPr/>
        </p:nvSpPr>
        <p:spPr>
          <a:xfrm>
            <a:off x="0" y="5004720"/>
            <a:ext cx="91440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ются цели, для исполнения которых создан и функционирует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краткая характеристика целей деятельности путем отражения основных направлений деятельности и функций субъекта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правовое обоснование установленных целей и функций в соответствии с действующими нормативными правовыми и организационно-распорядительными док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1600-B79D-4481-ADC5-EB302B1A2DA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790560"/>
          <a:ext cx="9144000" cy="5813280"/>
        </p:xfrm>
        <a:graphic>
          <a:graphicData uri="http://schemas.openxmlformats.org/drawingml/2006/table">
            <a:tbl>
              <a:tblPr/>
              <a:tblGrid>
                <a:gridCol w="1979640"/>
                <a:gridCol w="1338120"/>
                <a:gridCol w="959040"/>
                <a:gridCol w="1031760"/>
                <a:gridCol w="3835440"/>
              </a:tblGrid>
              <a:tr h="4496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ятые 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Распорядительные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принятых 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едение нормативов обеспечения сотрудников канцелярскими принадлежност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ращение расходов по статье 340 «Увеличение стоимости материальных запас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новка счетчиков воды, теп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я бюджетных средств по КБК 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уществление контроля за ведением междугородних телефонных переговоров сотру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egoe Semibold"/>
                          <a:ea typeface="Times New Roman"/>
                        </a:rPr>
                        <a:t>Экономия бюджетных средств за счет  уменьшения расходов по КБК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5120">
                <a:tc gridSpan="5"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Информация в таблице характеризует меры по повышению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бюджетных средств, проводимые субъектом бюджетной отчетности на основании организационно-распорядительных документов главного распорядителя (распорядителя) и получателя средств бюдж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497a"/>
                          </a:solidFill>
                          <a:latin typeface="Segoe Semibold"/>
                        </a:rPr>
                        <a:t>Таблица оформляется  получателем средств бюджета.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egoe Semibold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56"/>
          <p:cNvSpPr/>
          <p:nvPr/>
        </p:nvSpPr>
        <p:spPr>
          <a:xfrm>
            <a:off x="34920" y="-61560"/>
            <a:ext cx="9109080" cy="78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 мерах по повышению эффективности расхо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ных средств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лица № 2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A94E-5097-4D99-8BB6-114B9EE7E65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89000"/>
            <a:ext cx="87854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едения 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исполнении текстовых статей закона (решения) о бюджете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549360"/>
          <a:ext cx="8778960" cy="2351160"/>
        </p:xfrm>
        <a:graphic>
          <a:graphicData uri="http://schemas.openxmlformats.org/drawingml/2006/table">
            <a:tbl>
              <a:tblPr/>
              <a:tblGrid>
                <a:gridCol w="2925720"/>
                <a:gridCol w="2927520"/>
                <a:gridCol w="2925720"/>
              </a:tblGrid>
              <a:tr h="7351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держание статьи зак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я) о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не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2781360"/>
          <a:ext cx="8893080" cy="38512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3916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 № 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яетс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лавным распорядителем (распорядителем), администратором поступлений в бюджет, органом, организующи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полнение бюджета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содержит результаты исполнения текстовых статей закона (решения) о бюдж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азывается содержание текстовой статьи закона (решения) о бюджете,  имеющей отношение к субъекту бюджетной отче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ется результат 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казанием показателей, характеризующих степень из результативност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3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ются причины не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0DF4-1884-426A-A432-ADCDE472331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0" y="404640"/>
          <a:ext cx="9109080" cy="6231240"/>
        </p:xfrm>
        <a:graphic>
          <a:graphicData uri="http://schemas.openxmlformats.org/drawingml/2006/table">
            <a:tbl>
              <a:tblPr/>
              <a:tblGrid>
                <a:gridCol w="2881440"/>
                <a:gridCol w="1368360"/>
                <a:gridCol w="2158920"/>
                <a:gridCol w="2700360"/>
              </a:tblGrid>
              <a:tr h="9680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Наименование объекта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 счета 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арактеристика метода оценки и момент отражения операции в уче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136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Информация в таблице характеризует использованные в отчетном периоде особенности отражения в бюджетном учете операций  в части установленного Инструкцией по бюджетному учету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права самостоятельного определения таких особенност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и отраслевых особенностей бюджетного учета,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разработанных соответствующими федеральными органами исполнительной власти и  утвержденных в установленном поряд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наименование объекта бюджетного учета, в отношении которого применяются особенности при отражении операций в бюджетном уч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код счета бюджетного учета, на котором отражаются указанные в графе 1 объекты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характеристика применяемых особенностей бюджетного учета в отношении указанных в графе 1 объектов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правовое обоснование применения определенных в графе 3 особенностей (особенности, определенные исходя из положений Инструкции по бюджетному учету и организационно-распорядительных документов соответствующих федеральных органов исполнительной власти, введенных в действие в установленном порядк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48"/>
          <p:cNvSpPr/>
          <p:nvPr/>
        </p:nvSpPr>
        <p:spPr>
          <a:xfrm>
            <a:off x="0" y="45720"/>
            <a:ext cx="9144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 особенностях ведени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го уче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Таблица №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7D50-3B3B-4D6B-98D5-5A974367EAE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5"/>
          <p:cNvSpPr/>
          <p:nvPr/>
        </p:nvSpPr>
        <p:spPr>
          <a:xfrm>
            <a:off x="592200" y="0"/>
            <a:ext cx="8551800" cy="27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обенностя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д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ов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333360"/>
          <a:ext cx="9144000" cy="6600960"/>
        </p:xfrm>
        <a:graphic>
          <a:graphicData uri="http://schemas.openxmlformats.org/drawingml/2006/table">
            <a:tbl>
              <a:tblPr/>
              <a:tblGrid>
                <a:gridCol w="2247840"/>
                <a:gridCol w="920880"/>
                <a:gridCol w="4895640"/>
                <a:gridCol w="1079640"/>
              </a:tblGrid>
              <a:tr h="583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мен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ое об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инансов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25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руж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ч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м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ч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ю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о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52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4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 %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ов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61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5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щ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323C-D017-4D5E-B1C7-F7DA8FDAF1A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8580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35"/>
          <p:cNvSpPr/>
          <p:nvPr/>
        </p:nvSpPr>
        <p:spPr>
          <a:xfrm>
            <a:off x="179280" y="239400"/>
            <a:ext cx="8769960" cy="310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зультатах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мероприятий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внутренне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контро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360" y="981000"/>
          <a:ext cx="8964720" cy="4270320"/>
        </p:xfrm>
        <a:graphic>
          <a:graphicData uri="http://schemas.openxmlformats.org/drawingml/2006/table">
            <a:tbl>
              <a:tblPr/>
              <a:tblGrid>
                <a:gridCol w="1638360"/>
                <a:gridCol w="4411800"/>
                <a:gridCol w="1457280"/>
                <a:gridCol w="1457280"/>
              </a:tblGrid>
              <a:tr h="1226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по устранению выявленных наруш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1044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ы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ывающ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9489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Проверка соответствия перечня и номенклатуры полученных учреждением товаров (работ, услуг) перечню и номенклатуре оплачиваемых товаров (работ, услуг) согласн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факта получения основных средств, оплаченных по КБК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 в ФКУ о корректиров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2-05T13:31:54Z</dcterms:modified>
  <cp:revision>1777</cp:revision>
  <dc:subject/>
  <dc:title>Заголовок слайда отсутствует</dc:title>
</cp:coreProperties>
</file>